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jpeg" ContentType="image/jpeg"/>
  <Override PartName="/ppt/media/image9.png" ContentType="image/png"/>
  <Override PartName="/ppt/media/image13.png" ContentType="image/png"/>
  <Override PartName="/ppt/media/image19.wmf" ContentType="image/x-wmf"/>
  <Override PartName="/ppt/media/image2.png" ContentType="image/png"/>
  <Override PartName="/ppt/media/image18.png" ContentType="image/png"/>
  <Override PartName="/ppt/media/image17.png" ContentType="image/png"/>
  <Override PartName="/ppt/media/image8.png" ContentType="image/png"/>
  <Override PartName="/ppt/media/image16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9689-7405-41AD-9002-EC12D9100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732-38C5-4AE2-AFFD-299D9146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3B35-214F-48FB-8C6F-1B60288C8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6F6E-4E4C-4AA7-B5AC-C9EDD47A7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3E14-40FC-4478-8D3E-9FE90814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3505-A72B-46BD-B168-0F3AE0B8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FDA-AB52-4FF3-AEDE-CD57A76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AEC-2A13-48FC-A359-BB793616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F27C-40A8-4ECE-8879-FA2D8C43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C4B-88D0-4ACD-B459-7623E186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E78C-B4C6-4959-884D-28E2D15E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B0B1-878A-4AD8-BD03-E76BBDC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1EE6-7743-42FE-86DE-81D49C434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4: Pay Attention to Your Work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4495680" y="1295280"/>
            <a:ext cx="12193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3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5791320" y="990720"/>
            <a:ext cx="98748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3886200" cy="39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9" descr="C:\Documents and Settings\margaret.scoufis\Local Settings\Temporary Internet Files\Content.IE5\D2Q6IHPB\MC900089048[1].wmf"/>
          <p:cNvPicPr/>
          <p:nvPr/>
        </p:nvPicPr>
        <p:blipFill>
          <a:blip r:embed="rId3"/>
          <a:stretch/>
        </p:blipFill>
        <p:spPr>
          <a:xfrm>
            <a:off x="5715000" y="2057400"/>
            <a:ext cx="762120" cy="99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4" descr=""/>
          <p:cNvPicPr/>
          <p:nvPr/>
        </p:nvPicPr>
        <p:blipFill>
          <a:blip r:embed="rId4"/>
          <a:stretch/>
        </p:blipFill>
        <p:spPr>
          <a:xfrm>
            <a:off x="5715000" y="3581280"/>
            <a:ext cx="1143000" cy="952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5" descr="C:\Documents and Settings\margaret.scoufis\Local Settings\Temporary Internet Files\Content.IE5\EJHB74IG\MC900303675[1].wmf"/>
          <p:cNvPicPr/>
          <p:nvPr/>
        </p:nvPicPr>
        <p:blipFill>
          <a:blip r:embed="rId5"/>
          <a:stretch/>
        </p:blipFill>
        <p:spPr>
          <a:xfrm>
            <a:off x="5562720" y="3429000"/>
            <a:ext cx="1485720" cy="14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8" descr=""/>
          <p:cNvPicPr/>
          <p:nvPr/>
        </p:nvPicPr>
        <p:blipFill>
          <a:blip r:embed="rId6"/>
          <a:stretch/>
        </p:blipFill>
        <p:spPr>
          <a:xfrm>
            <a:off x="5562720" y="5181480"/>
            <a:ext cx="1441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Program Files\Microsoft Office\MEDIA\CAGCAT10\j0293828.wmf"/>
          <p:cNvPicPr/>
          <p:nvPr/>
        </p:nvPicPr>
        <p:blipFill>
          <a:blip r:embed="rId1"/>
          <a:stretch/>
        </p:blipFill>
        <p:spPr>
          <a:xfrm>
            <a:off x="457200" y="304920"/>
            <a:ext cx="1219320" cy="12826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2141640" y="2209680"/>
            <a:ext cx="4929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am I Doing?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ell do you pay attention to your work?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Documents and Settings\margaret.scoufis\Local Settings\Temporary Internet Files\Content.IE5\EJHB74IG\MC910217050[1].png"/>
          <p:cNvPicPr/>
          <p:nvPr/>
        </p:nvPicPr>
        <p:blipFill>
          <a:blip r:embed="rId1"/>
          <a:stretch/>
        </p:blipFill>
        <p:spPr>
          <a:xfrm>
            <a:off x="228600" y="304920"/>
            <a:ext cx="990720" cy="941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Documents and Settings\margaret.scoufis\Local Settings\Temporary Internet Files\Content.IE5\EJHB74IG\MC900433160[1].jpg"/>
          <p:cNvPicPr/>
          <p:nvPr/>
        </p:nvPicPr>
        <p:blipFill>
          <a:blip r:embed="rId2"/>
          <a:stretch/>
        </p:blipFill>
        <p:spPr>
          <a:xfrm>
            <a:off x="1143000" y="9907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Documents and Settings\margaret.scoufis\Local Settings\Temporary Internet Files\Content.IE5\EJHB74IG\MC900433160[1].jpg"/>
          <p:cNvPicPr/>
          <p:nvPr/>
        </p:nvPicPr>
        <p:blipFill>
          <a:blip r:embed="rId3"/>
          <a:stretch/>
        </p:blipFill>
        <p:spPr>
          <a:xfrm>
            <a:off x="32004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margaret.scoufis\Local Settings\Temporary Internet Files\Content.IE5\EJHB74IG\MC900433160[1].jpg"/>
          <p:cNvPicPr/>
          <p:nvPr/>
        </p:nvPicPr>
        <p:blipFill>
          <a:blip r:embed="rId4"/>
          <a:stretch/>
        </p:blipFill>
        <p:spPr>
          <a:xfrm>
            <a:off x="2819520" y="1143000"/>
            <a:ext cx="533160" cy="533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margaret.scoufis\Local Settings\Temporary Internet Files\Content.IE5\EJHB74IG\MC900433160[1].jpg"/>
          <p:cNvPicPr/>
          <p:nvPr/>
        </p:nvPicPr>
        <p:blipFill>
          <a:blip r:embed="rId5"/>
          <a:stretch/>
        </p:blipFill>
        <p:spPr>
          <a:xfrm>
            <a:off x="5486400" y="16002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margaret.scoufis\Local Settings\Temporary Internet Files\Content.IE5\EJHB74IG\MC900433160[1].jpg"/>
          <p:cNvPicPr/>
          <p:nvPr/>
        </p:nvPicPr>
        <p:blipFill>
          <a:blip r:embed="rId6"/>
          <a:stretch/>
        </p:blipFill>
        <p:spPr>
          <a:xfrm>
            <a:off x="5715000" y="1066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margaret.scoufis\Local Settings\Temporary Internet Files\Content.IE5\EJHB74IG\MC900433160[1].jpg"/>
          <p:cNvPicPr/>
          <p:nvPr/>
        </p:nvPicPr>
        <p:blipFill>
          <a:blip r:embed="rId7"/>
          <a:stretch/>
        </p:blipFill>
        <p:spPr>
          <a:xfrm>
            <a:off x="5181480" y="10666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1523880" y="1447920"/>
            <a:ext cx="99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hard to pa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3733920" y="1295280"/>
            <a:ext cx="99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pay attention some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6400800" y="12193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lmost always pay att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Documents and Settings\margaret.scoufis\Local Settings\Temporary Internet Files\Content.IE5\25VZ6HAH\MC900432589[1].png"/>
          <p:cNvPicPr/>
          <p:nvPr/>
        </p:nvPicPr>
        <p:blipFill>
          <a:blip r:embed="rId8"/>
          <a:stretch/>
        </p:blipFill>
        <p:spPr>
          <a:xfrm>
            <a:off x="30492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9"/>
          <a:stretch/>
        </p:blipFill>
        <p:spPr>
          <a:xfrm>
            <a:off x="2362320" y="281952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1:35:11Z</dcterms:created>
  <dc:creator>Margaret Scoufis</dc:creator>
  <dc:description/>
  <dc:language>en-US</dc:language>
  <cp:lastModifiedBy>Margaret Scoufis</cp:lastModifiedBy>
  <dcterms:modified xsi:type="dcterms:W3CDTF">2010-11-16T20:58:10Z</dcterms:modified>
  <cp:revision>15</cp:revision>
  <dc:subject/>
  <dc:title>Slide 1</dc:title>
</cp:coreProperties>
</file>